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7CF6-3B33-4720-99CA-DE2E733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8598-05FB-4C22-BCBE-B634C0C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D91F-B799-4281-A526-99222E33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D1FF-5A66-47C4-83CC-16569C78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47D5-74FA-4422-BB8B-F6CD116F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B22-428C-42E0-BD5E-DDC72D7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C1D-1AD3-424B-B1A4-3E872CDD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57B-E427-4C88-9CDC-EAF90F9B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D347-0236-429E-8040-196FDFA9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F881-868D-4EBE-910D-727DF1B2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DDEA-AC3A-4687-9C3A-0764B52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07AC-45D7-4AC0-85F9-3D27D45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73A3-CEE3-4CAB-8C4C-A5AD447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DB83-20B9-4853-84BB-20ADBF6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36C0-0588-47CA-9AFD-E77D1D1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1AD2-61A2-4947-B2B5-DC536FA4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788-1B52-4934-BBDC-26A0B5FF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C679-F799-48A6-8520-2D19072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E464-6EC7-446F-A06B-859BAF13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AAE3-9B7B-48C3-949B-DC6366A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B087-D346-415C-9F50-5B4E3B76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7EC7-9F69-46B1-A152-90D306E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A170-52E4-4986-9B80-2366A48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814E-0BDB-4CCB-9C47-5B9540EB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25AE-4965-4AF1-927C-6B4F11DD659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907B-A22E-42C6-8248-BAEDF7247AE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885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казва ни небесна ши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лазура сияйният ефи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казват рой слънца, звез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йта слава, Господ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своя неизменен дру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 светове вървят без шум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ен след ден, и нощ след нощ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казват, Боже, Твойта м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47088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ш`то Слънце в своя хо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ети по целий небесвод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пуска царствен, злат чертог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заповед на славний Бог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щом ни вечер мрак обви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уната, ей, се появ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Земята зашеп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сам си я направил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-300960"/>
            <a:ext cx="932508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казват все таз дивна ве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дават Богу слава, че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ланети и звезди безбр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вижение вечно без пок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кар не стига звук до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чуй се шум, ни земен гл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хти в далечния ефи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а музика безспир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15:20:03Z</dcterms:modified>
  <cp:revision>12</cp:revision>
  <dc:subject/>
  <dc:title>Slide 1</dc:title>
</cp:coreProperties>
</file>